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-Ear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C207-8602-47BD-A1A4-ED1269BA2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28A8-D433-49A1-A0CA-47DB07E0138F}" type="slidenum">
              <a:rPr b="0" lang="en-US" sz="1200" spc="-1" strike="noStrike">
                <a:solidFill>
                  <a:srgbClr val="00499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EC-Earth meeting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35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60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5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209680" y="830160"/>
            <a:ext cx="4604040" cy="1381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5838840" y="1025640"/>
            <a:ext cx="1012680" cy="5270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5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6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7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8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46B-2CC6-49C7-942F-0878E004EC49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8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2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7F3-F7F6-434B-BD72-4D5DEB6BA05B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2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61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D8D7-50CB-4792-A248-985492F37259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6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02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41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7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0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2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Shape 1"/>
          <p:cNvSpPr/>
          <p:nvPr/>
        </p:nvSpPr>
        <p:spPr>
          <a:xfrm>
            <a:off x="6548400" y="196920"/>
            <a:ext cx="244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ome, 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February 2016</a:t>
            </a:r>
            <a:endParaRPr b="0" lang="en-US" sz="1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8" name="TextShape 2"/>
          <p:cNvSpPr/>
          <p:nvPr/>
        </p:nvSpPr>
        <p:spPr>
          <a:xfrm>
            <a:off x="685800" y="272556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posal for a Climate Prediction Working Group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9" name="TextShape 4"/>
          <p:cNvSpPr/>
          <p:nvPr/>
        </p:nvSpPr>
        <p:spPr>
          <a:xfrm>
            <a:off x="1351080" y="4757760"/>
            <a:ext cx="6480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ginie Guemas, Torben Koenigk, Pedro Viterbo, Mihaela Caian, Francois Massonnet, Franco Molteni, Andrea Alessandri, Rein Haarsma, Chiara Cagnazzo, Susanna Corti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1766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2141640"/>
            <a:ext cx="83296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investigation of sources and mechanisms of climate predictability on sub-seasonal to decadal timescal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development on initialisation and ensemble generation techniqu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assessment of climate forecast quality on sub-seasonal to decadal timescale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The participation in coordinated international exercices such as DCP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108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teer collaboration/synergies within the EC-Earth consortium on </a:t>
            </a:r>
            <a:r>
              <a:rPr b="1" lang="en-US" sz="2000" spc="-1" strike="noStrike">
                <a:solidFill>
                  <a:srgbClr val="00499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 Sources of predictabili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5280" y="1709640"/>
            <a:ext cx="832968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Land surface (soil moisture, snow) and land-atmosphere coupling : ENEA, BSC, KNMI,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Ocean dynamics (thermohaline circulation) and thermodynamics (heat storage) : DMI, SMHI, KNMI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Regional sea ice conditions and linkages toward the continents: SMHI, UCL, KNMI, BSC 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tratosphere (QBO, aerosols) :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 Initialisation &amp; ensemble genera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95280" y="1780920"/>
            <a:ext cx="8329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ea ice data assimilation : UCL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Ocean reanalyses :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tmosphere reanalyses :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Coupled initialisation : UCL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nomaly versus full-field initialisation : SMHI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tochastic physics and dynamics : ISAC-CNR, ECMWF,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3. Climate forecast quality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1494000"/>
            <a:ext cx="83296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evelopment of forecast quality scores and process-based metrics : UCL, SMHI, KNMI, ECMWF,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Analysis of the development of biases in climate forecasts : BSC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evelopment of calibration methods : BSC, SMHI, UCL, KNMI, ECMWF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3360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4. International coordinated exercise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96560"/>
            <a:ext cx="83296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Joint proposals to PRACE or other competitive calls : BSC, SMHI, IPMA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DCPP: SMHI, IPMA, BSC, ISAC-CN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S2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C3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298440" indent="-298440">
              <a:lnSpc>
                <a:spcPct val="150000"/>
              </a:lnSpc>
              <a:spcBef>
                <a:spcPts val="601"/>
              </a:spcBef>
              <a:buClr>
                <a:srgbClr val="00499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990"/>
                </a:solidFill>
                <a:latin typeface="Arial"/>
              </a:rPr>
              <a:t>EUROSI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Shape 2"/>
          <p:cNvSpPr/>
          <p:nvPr/>
        </p:nvSpPr>
        <p:spPr>
          <a:xfrm>
            <a:off x="1351080" y="4761000"/>
            <a:ext cx="6480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urther information please contact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rginie.guemas@bsc.es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23" name="TextShape 1"/>
          <p:cNvSpPr/>
          <p:nvPr/>
        </p:nvSpPr>
        <p:spPr>
          <a:xfrm>
            <a:off x="1371600" y="3718080"/>
            <a:ext cx="6400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Virginie Guemas</cp:lastModifiedBy>
  <dcterms:modified xsi:type="dcterms:W3CDTF">2016-02-03T13:23:21Z</dcterms:modified>
  <cp:revision>82</cp:revision>
  <dc:subject/>
  <dc:title>PowerPoint Presentation</dc:title>
</cp:coreProperties>
</file>